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0143-7317-4856-AAD6-8CF6BE137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A131-17E0-4C26-9331-B6ACAC469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C0ED-F31B-4B14-8CDC-378622C27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CDBE-FB44-42AE-B1C6-B2F2C2A7B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A889B-7827-4D5B-8BD9-2B99E18DA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5F5B0-B15F-4D0C-805C-3FFE4AFD2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53DE4-D6F6-4CAC-A43A-1846E04D5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43A50-06ED-4AE6-9134-99B81E4E0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33507-F5C0-48BF-9E2E-D8E027D6C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81929-8E62-4AA2-A30A-BEC5B11D5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75A57-1C01-4946-97D8-B8AE602C9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B0C1-FBAF-4204-BABE-E30158AC8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B3AC9-6D2A-4634-B69D-F7AAC669C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509D6-7E5C-4BE4-B49C-44D080985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1290E-49CB-4170-ACDA-05B6E3435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E6725-7873-45E3-B574-5BD834284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EAF75-F297-4B07-880D-3FBD1C5C6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FB66-D8E0-4E58-B6FD-3DF4081C7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F75E-02D6-4612-A701-506C8DEDF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B8A2-0448-42A4-8868-CBA170B1D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ED8A-45B3-43DB-9BFA-A769875C7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169D-A48A-49BB-BCB7-A4AFDFC36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7379-45D1-453D-B739-C1D327EF1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B9D9-C5A5-492E-A056-92B5A0F9E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46480-C563-4303-84ED-B4E60B48CFE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91A6D-6A9E-4982-903F-5013FB9098E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thegregbradyproject.com/blog/wp-content/uploads/2008/02/039_45554happy-days-posters.jpg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beatlephoto.blogspot.com/" TargetMode="External"/><Relationship Id="rId4" Type="http://schemas.openxmlformats.org/officeDocument/2006/relationships/image" Target="../media/image13.jpe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Social Institutions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in, C.M., &amp; Colyer, J.S. (2001).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 Human wa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Toronto: Oxford University 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Snapshot - Education 1945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057400" y="1752480"/>
            <a:ext cx="541008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lvl="1" marL="9525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very 100 students who entered grade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8 entered secondary sch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1 graduated from grade 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3 graduated from grade 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566680" y="5486400"/>
            <a:ext cx="27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eform was necessary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330033"/>
                </a:solidFill>
                <a:latin typeface="Times New Roman"/>
              </a:rPr>
              <a:t>Past Challenges</a:t>
            </a: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br>
              <a:rPr sz="3800"/>
            </a:b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1945-1950’s – Traditionalist Reform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4114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ed compulsory subjects and reduced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ntralized provincial po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uced power of teachers to develop local cour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more grants for gyms and auditoriu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ical and business subjects received little atten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952880" y="1676520"/>
            <a:ext cx="3810240" cy="29145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6248520" y="4572000"/>
            <a:ext cx="2361960" cy="18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330033"/>
                </a:solidFill>
                <a:latin typeface="Times New Roman"/>
              </a:rPr>
              <a:t>Past Challenges</a:t>
            </a: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br>
              <a:rPr sz="3800"/>
            </a:b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The 1960s: Progressive Reform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the manufacturing sector became more import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need for trained technicians drove school re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by boo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“Reorganized Programme” or Robarts Plan (Three streams after grade 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ts and Science leading to grade 13 grad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siness and Commerce leading to grade 12 grad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ience, Trades, Technology leading to either grade 12 graduation or grade 10 diplo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330033"/>
                </a:solidFill>
                <a:latin typeface="Times New Roman"/>
              </a:rPr>
              <a:t>Past Challenges</a:t>
            </a: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br>
              <a:rPr sz="3800"/>
            </a:b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The 1960s: Progressive Reforms cont.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4956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rolment and retention incre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n 1960, 67% of 15-19 year olds were in schoo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n 1968 – 77% of 15-19 year olds were in schoo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ical education became more import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remely rig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locked into your stream after grade 1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rovince-wide final exams for university entranc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5334120" y="1676520"/>
            <a:ext cx="3333600" cy="23241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5334120" y="4114800"/>
            <a:ext cx="3276360" cy="23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1960’s School Reforms continued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ll Dennis Report in 1968 recommen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edit system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adopted – don’t have to fail entire ye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ulsory courses kept to a minimu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arning should focus on students’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terest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rength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nkin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eativit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 not just memorizing fa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igid streaming should e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 punishment, but encouraged to refor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1969-72 School Reforms continued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d to the adoption of High School (1969-72 introduc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de 13 province-wide exams abolish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boards abolished exams entire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erimental courses encourag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udent consultation encourag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tario Schools: Intermediate and Senior (OSIS) 198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distinction between grade 12 and 13 grad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ee streams – basic, general, advanced  - based on 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The 1970s and 80s: Multicultural Education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deral policy in 1971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ter of Rights in 198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ee levels of multicultural edu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od and festival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uest speakers, fairs, celebration of d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bedded in the curricul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s of WWII volunteers from different backgrou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ti-racism edu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ine roots of inequality and study injust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572000" y="838080"/>
            <a:ext cx="2666880" cy="27432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7238880" y="990720"/>
            <a:ext cx="1524240" cy="18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Aboriginal Educatio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5410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originals are a federal responsibility, education is provin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dit courses are available in Native Languages and Stud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de 11 college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dentity, Relationships, Sovereignty, Challenges, Writin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cities have separate Aboriginal Sch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ins Indians Cultural Survival School in Calgary (7-1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original schools are less isolated because of the inter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o Ussak school in Rankin Inlet linked to a Hawaii sch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6019920" y="457200"/>
            <a:ext cx="2857320" cy="17524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019920" y="2286000"/>
            <a:ext cx="2857320" cy="21337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6019920" y="4495680"/>
            <a:ext cx="285732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The 1990s: The Ontario Curriculum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orms emphasized costs relative to student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993 Canada spent 6.9% of GDP on edu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nly Norway and Sweden spend mor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raduation standards were seen as not high enoug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 $1 billion removed from school boards 1996-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nce wide walkout by teachers in 1997 for two wee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Ontario Curriculum Reforms – </a:t>
            </a:r>
            <a:br>
              <a:rPr sz="3800"/>
            </a:b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1999-2002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w a 4 year program, like other provi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 credits for grad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lsory credits increased from 14 to 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 hours of volunteer 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eracy test in grade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consistent assessment and evalu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0% term work, 30% final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ed and academic in junior grades, and Workplace, College, University or Open in senior gr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fer courses allow students to change stre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nce wide testing in grades 3, 6, 9 and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828800" y="1143000"/>
            <a:ext cx="68580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Part 1 </a:t>
            </a:r>
            <a:r>
              <a:rPr b="1" i="1" lang="en-US" sz="4400" spc="-1" strike="noStrike">
                <a:solidFill>
                  <a:srgbClr val="330033"/>
                </a:solidFill>
                <a:latin typeface="Times New Roman"/>
              </a:rPr>
              <a:t>Purpose of Education</a:t>
            </a: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ools of Thou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ilosoph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Supporters of the new program – Your Program!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vides a clearer, more consistent picture of student achievemen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K, T, C, A and most consisten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grade reflects what student has demonstrated they are capable of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urses more relevant to destination (U, C, O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vince-wide testing alerts teachers and parents to proble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Guarantees quality of diplom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lows public to compare students from different area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Opponents of the new program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o rigid, little room for local variation (electiv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courages teaching to the test – facts rather than creativ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$ and resources spent on EQAO – Teacher can provide the same information at no additional cost to what they are already being paid for doing their job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ulds students instead of responding to their nee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School Timelin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5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2120" y="4343400"/>
            <a:ext cx="1141200" cy="1434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057400" y="4572000"/>
            <a:ext cx="1143000" cy="1133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8" name=""/>
          <p:cNvSpPr/>
          <p:nvPr/>
        </p:nvSpPr>
        <p:spPr>
          <a:xfrm>
            <a:off x="914400" y="3886200"/>
            <a:ext cx="8001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907200" y="3693960"/>
            <a:ext cx="1433520" cy="368280"/>
          </a:xfrm>
          <a:prstGeom prst="rect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45-1950’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964600" y="3693960"/>
            <a:ext cx="1433520" cy="368280"/>
          </a:xfrm>
          <a:prstGeom prst="rect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60’s-197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189040" y="3657600"/>
            <a:ext cx="801000" cy="368280"/>
          </a:xfrm>
          <a:prstGeom prst="rect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80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773400" y="3618000"/>
            <a:ext cx="801000" cy="368280"/>
          </a:xfrm>
          <a:prstGeom prst="rect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90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932240" y="3657600"/>
            <a:ext cx="686520" cy="368280"/>
          </a:xfrm>
          <a:prstGeom prst="rect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04920" y="1523880"/>
            <a:ext cx="1676160" cy="1828800"/>
          </a:xfrm>
          <a:prstGeom prst="wedgeRectCallout">
            <a:avLst>
              <a:gd name="adj1" fmla="val 16759"/>
              <a:gd name="adj2" fmla="val 67013"/>
            </a:avLst>
          </a:prstGeom>
          <a:solidFill>
            <a:srgbClr val="dfdeb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ditionalist R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Compulsory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Centraliz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362320" y="1143000"/>
            <a:ext cx="2209680" cy="2209680"/>
          </a:xfrm>
          <a:prstGeom prst="wedgeRectCallout">
            <a:avLst>
              <a:gd name="adj1" fmla="val -8907"/>
              <a:gd name="adj2" fmla="val 64296"/>
            </a:avLst>
          </a:prstGeom>
          <a:solidFill>
            <a:srgbClr val="dfdeb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362320" y="1143000"/>
            <a:ext cx="2178000" cy="23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gress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ea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us on tra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ade 12, 13 gr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dged – locked into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eam after gr.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rot="10800000">
            <a:off x="3352680" y="4419720"/>
            <a:ext cx="2895840" cy="2133360"/>
          </a:xfrm>
          <a:prstGeom prst="wedgeRectCallout">
            <a:avLst>
              <a:gd name="adj1" fmla="val 12060"/>
              <a:gd name="adj2" fmla="val 75296"/>
            </a:avLst>
          </a:prstGeom>
          <a:solidFill>
            <a:srgbClr val="dfdeb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52680" y="4419720"/>
            <a:ext cx="2819520" cy="21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969-72 School Re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dit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mited compulsory cour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elective cour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uce ex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Basic / general / advanc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724280" y="1066680"/>
            <a:ext cx="1752840" cy="2210040"/>
          </a:xfrm>
          <a:prstGeom prst="wedgeRectCallout">
            <a:avLst>
              <a:gd name="adj1" fmla="val 25453"/>
              <a:gd name="adj2" fmla="val 78449"/>
            </a:avLst>
          </a:prstGeom>
          <a:solidFill>
            <a:srgbClr val="dfdeb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708440" y="1143000"/>
            <a:ext cx="1768680" cy="18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lticultu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od / festiv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mbedded i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rricul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Anti-racis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715000" y="4495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629400" y="1219320"/>
            <a:ext cx="2133720" cy="2209680"/>
          </a:xfrm>
          <a:prstGeom prst="wedgeRectCallout">
            <a:avLst>
              <a:gd name="adj1" fmla="val 3125"/>
              <a:gd name="adj2" fmla="val 70472"/>
            </a:avLst>
          </a:prstGeom>
          <a:solidFill>
            <a:srgbClr val="dfdeb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693120" y="1179360"/>
            <a:ext cx="2041200" cy="23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tario R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st of educ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$1 billion c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0 credit grad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olunte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QA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ess/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1905120" y="3886200"/>
            <a:ext cx="76176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2743200" y="41148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5"/>
          <a:stretch/>
        </p:blipFill>
        <p:spPr>
          <a:xfrm>
            <a:off x="7162920" y="4343400"/>
            <a:ext cx="1600200" cy="218916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 rot="10800000">
            <a:off x="5866920" y="4191120"/>
            <a:ext cx="1600200" cy="914400"/>
          </a:xfrm>
          <a:prstGeom prst="wedgeRectCallout">
            <a:avLst>
              <a:gd name="adj1" fmla="val 33629"/>
              <a:gd name="adj2" fmla="val 85069"/>
            </a:avLst>
          </a:prstGeom>
          <a:solidFill>
            <a:srgbClr val="dfdeb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944320" y="4343400"/>
            <a:ext cx="131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borig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Other models of Education</a:t>
            </a:r>
            <a:br>
              <a:rPr sz="3800"/>
            </a:b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i="1" lang="en-US" sz="3800" spc="-1" strike="noStrike">
                <a:solidFill>
                  <a:srgbClr val="330033"/>
                </a:solidFill>
                <a:latin typeface="Times New Roman"/>
              </a:rPr>
              <a:t>Behaviourist School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ased on the work of Pavlov and Skinn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sitive reinforcement more effective than negativ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acher’s role is not to force students to achieve externally developed expectations, or to rank students against each oth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asure how much students learn from a starting poi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re- and post-learning assessmen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Other models of Education</a:t>
            </a: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br>
              <a:rPr sz="3800"/>
            </a:br>
            <a:r>
              <a:rPr b="0" i="1" lang="en-US" sz="3800" spc="-1" strike="noStrike">
                <a:solidFill>
                  <a:srgbClr val="330033"/>
                </a:solidFill>
                <a:latin typeface="Times New Roman"/>
              </a:rPr>
              <a:t>Marxist Free School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hilosop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etition leads to alienation among those who fai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ch student decides what he or she would like to lear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eacher guides and facilitates the learning proces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828800" y="1143000"/>
            <a:ext cx="69343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Part 3 – </a:t>
            </a:r>
            <a:r>
              <a:rPr b="1" i="1" lang="en-US" sz="4400" spc="-1" strike="noStrike">
                <a:solidFill>
                  <a:srgbClr val="330033"/>
                </a:solidFill>
                <a:latin typeface="Times New Roman"/>
              </a:rPr>
              <a:t>Issues in Education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ip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op-o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ture of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Issues in Education</a:t>
            </a:r>
            <a:br>
              <a:rPr sz="3800"/>
            </a:br>
            <a:r>
              <a:rPr b="1" i="1" lang="en-US" sz="3200" spc="-1" strike="noStrike">
                <a:solidFill>
                  <a:srgbClr val="330033"/>
                </a:solidFill>
                <a:latin typeface="Times New Roman"/>
              </a:rPr>
              <a:t>School Discipline</a:t>
            </a:r>
            <a:br>
              <a:rPr sz="3800"/>
            </a:b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tario Schools Code of Conduct introduced in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on discipline including mandatory suspensions for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reatening another studen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wearing at a teacher or other authority figur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onstrates education’s philosophical shift to a more traditional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work in progress.  School boards constantly revising school Discipline poli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Issues in Education</a:t>
            </a:r>
            <a:br>
              <a:rPr sz="3600"/>
            </a:br>
            <a:r>
              <a:rPr b="1" i="1" lang="en-US" sz="3200" spc="-1" strike="noStrike">
                <a:solidFill>
                  <a:srgbClr val="330033"/>
                </a:solidFill>
                <a:latin typeface="Times New Roman"/>
              </a:rPr>
              <a:t>Dropping Out</a:t>
            </a:r>
            <a:br>
              <a:rPr sz="3200"/>
            </a:b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91 surv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6% of all 18-20 year olds left before graduat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2% had no more than grade 9 edu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igher for men (18%) than for women (10%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ropouts most likely to find work in low-paid service sect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rect link between dropping out and pover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330033"/>
                </a:solidFill>
                <a:latin typeface="Times New Roman"/>
              </a:rPr>
              <a:t>Dropping-out continued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acteristics of dropouts (Barlow and Roberston 199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thers didn’t complete high sch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d schools a number of ti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ve alone or with friends, not fami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 while attending sch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iends/family don’t think completing high school import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gnancy or dependent child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ab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330033"/>
                </a:solidFill>
                <a:latin typeface="Times New Roman"/>
              </a:rPr>
              <a:t>Dropping Out continued</a:t>
            </a:r>
            <a:br>
              <a:rPr sz="3800"/>
            </a:br>
            <a:r>
              <a:rPr b="0" i="1" lang="en-US" sz="3800" spc="-1" strike="noStrike">
                <a:solidFill>
                  <a:srgbClr val="330033"/>
                </a:solidFill>
                <a:latin typeface="Times New Roman"/>
              </a:rPr>
              <a:t>Part time work and dropping out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ing a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oder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umber of hours reduced risk of dropping 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orking many hours increased dropout risk for ma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ck of employment increased dropout risk for femal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4724280" y="2666880"/>
            <a:ext cx="4210200" cy="23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330033"/>
                </a:solidFill>
                <a:latin typeface="Times New Roman"/>
              </a:rPr>
              <a:t>Purpose of Education – </a:t>
            </a:r>
            <a:br>
              <a:rPr sz="3800"/>
            </a:b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Today -</a:t>
            </a:r>
            <a:r>
              <a:rPr b="0" i="1" lang="en-US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2 Schools of Thought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828800"/>
            <a:ext cx="3124080" cy="430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unctionalist Sch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ducation system helps society achiev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tabil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has an important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409720" y="1828800"/>
            <a:ext cx="3124440" cy="430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onfli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ch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ducation system is a tool used by those in power to control society and maintain domin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038480" y="3505320"/>
            <a:ext cx="13716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Ver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"/>
          <p:cNvGrpSpPr/>
          <p:nvPr/>
        </p:nvGrpSpPr>
        <p:grpSpPr>
          <a:xfrm>
            <a:off x="2198160" y="634680"/>
            <a:ext cx="5434920" cy="5435640"/>
            <a:chOff x="2198160" y="634680"/>
            <a:chExt cx="5434920" cy="5435640"/>
          </a:xfrm>
        </p:grpSpPr>
        <p:sp>
          <p:nvSpPr>
            <p:cNvPr id="195" name="_s71695"/>
            <p:cNvSpPr/>
            <p:nvPr/>
          </p:nvSpPr>
          <p:spPr>
            <a:xfrm flipH="1">
              <a:off x="3555360" y="3352680"/>
              <a:ext cx="680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_s71694"/>
            <p:cNvSpPr/>
            <p:nvPr/>
          </p:nvSpPr>
          <p:spPr>
            <a:xfrm>
              <a:off x="2198160" y="2673360"/>
              <a:ext cx="1357560" cy="1357920"/>
            </a:xfrm>
            <a:prstGeom prst="ellipse">
              <a:avLst/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640" rIns="116640" tIns="58320" bIns="58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rporat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z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_s71693"/>
            <p:cNvSpPr/>
            <p:nvPr/>
          </p:nvSpPr>
          <p:spPr>
            <a:xfrm>
              <a:off x="4915800" y="4031640"/>
              <a:ext cx="0" cy="680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_s71692"/>
            <p:cNvSpPr/>
            <p:nvPr/>
          </p:nvSpPr>
          <p:spPr>
            <a:xfrm>
              <a:off x="4236840" y="4712760"/>
              <a:ext cx="1357560" cy="1357560"/>
            </a:xfrm>
            <a:prstGeom prst="ellipse">
              <a:avLst/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640" rIns="116640" tIns="58320" bIns="58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arter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chool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_s71691"/>
            <p:cNvSpPr/>
            <p:nvPr/>
          </p:nvSpPr>
          <p:spPr>
            <a:xfrm>
              <a:off x="5594400" y="3352680"/>
              <a:ext cx="680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_s71690"/>
            <p:cNvSpPr/>
            <p:nvPr/>
          </p:nvSpPr>
          <p:spPr>
            <a:xfrm>
              <a:off x="6275160" y="2673360"/>
              <a:ext cx="1357920" cy="1357920"/>
            </a:xfrm>
            <a:prstGeom prst="ellipse">
              <a:avLst/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640" rIns="116640" tIns="58320" bIns="58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ome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chool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_s71689"/>
            <p:cNvSpPr/>
            <p:nvPr/>
          </p:nvSpPr>
          <p:spPr>
            <a:xfrm flipV="1">
              <a:off x="4915800" y="1992240"/>
              <a:ext cx="0" cy="680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_s71688"/>
            <p:cNvSpPr/>
            <p:nvPr/>
          </p:nvSpPr>
          <p:spPr>
            <a:xfrm>
              <a:off x="4236840" y="634680"/>
              <a:ext cx="1357560" cy="1357560"/>
            </a:xfrm>
            <a:prstGeom prst="ellipse">
              <a:avLst/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640" rIns="116640" tIns="58320" bIns="58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istanc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ar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_s71687"/>
            <p:cNvSpPr/>
            <p:nvPr/>
          </p:nvSpPr>
          <p:spPr>
            <a:xfrm>
              <a:off x="4236840" y="2673360"/>
              <a:ext cx="1357560" cy="1357920"/>
            </a:xfrm>
            <a:prstGeom prst="ellipse">
              <a:avLst/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640" rIns="116640" tIns="58320" bIns="58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Future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f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duc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"/>
          <p:cNvSpPr/>
          <p:nvPr/>
        </p:nvSpPr>
        <p:spPr>
          <a:xfrm rot="10800000">
            <a:off x="5943600" y="4343400"/>
            <a:ext cx="2209680" cy="1828800"/>
          </a:xfrm>
          <a:prstGeom prst="wedgeRectCallout">
            <a:avLst>
              <a:gd name="adj1" fmla="val 13217"/>
              <a:gd name="adj2" fmla="val 7031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943600" y="4267080"/>
            <a:ext cx="228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cus on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ther than gr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ach val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the r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676520" y="4343400"/>
            <a:ext cx="2361960" cy="1981080"/>
          </a:xfrm>
          <a:prstGeom prst="wedgeRectCallout">
            <a:avLst>
              <a:gd name="adj1" fmla="val 59407"/>
              <a:gd name="adj2" fmla="val 6009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pendent schools funded by public fu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’t be religious ba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752480" y="4495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095880" y="228600"/>
            <a:ext cx="2362320" cy="1981080"/>
          </a:xfrm>
          <a:prstGeom prst="wedgeRectCallout">
            <a:avLst>
              <a:gd name="adj1" fmla="val -71101"/>
              <a:gd name="adj2" fmla="val -2805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courses available online in most bo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aper, more flex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09480" y="228600"/>
            <a:ext cx="3353040" cy="2666880"/>
          </a:xfrm>
          <a:prstGeom prst="wedgeRectCallout">
            <a:avLst>
              <a:gd name="adj1" fmla="val 19601"/>
              <a:gd name="adj2" fmla="val 3887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porations pay schools for access or advertis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nding mach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NN – Youth News Network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Audio/visual equipment in exchange for 2 min of advertising in clas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330033"/>
                </a:solidFill>
                <a:latin typeface="Times New Roman"/>
              </a:rPr>
              <a:t>Purpose of Education</a:t>
            </a: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br>
              <a:rPr sz="3800"/>
            </a:b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Functionalist Approach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hools help society achieve stability b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aching knowledge and ski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cilitating cultural transmission of 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cilitating social integ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verse individual students molded into a cohesive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lacing family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ild c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x edu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achers and guidance counselors as confidants/ advis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0" i="1" lang="en-US" sz="3800" spc="-1" strike="noStrike">
                <a:solidFill>
                  <a:srgbClr val="330033"/>
                </a:solidFill>
                <a:latin typeface="Times New Roman"/>
              </a:rPr>
              <a:t>Purpose of Education</a:t>
            </a:r>
            <a:br>
              <a:rPr sz="3800"/>
            </a:b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The Conflict Perspective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ducation system is a tool used by those in power to control society and maintain domin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 purpose of education is to teach a hidden curricul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edience to autho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ormity to cultural n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prepare students to work for the el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ool perpetuates social inequa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The Conflict Perspective - continued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Kindergarten as Boot Cam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(1991 study by Harry Grace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Observed kindergarten teachers disciplining studen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lk only when asked to spea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questing permission to spea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ey authority fig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eachers reward obedient behaviour and punish non-conformer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e goal is to mould individuals into a compliant group who will unthinkingly follow classroom routin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724280" y="4343400"/>
            <a:ext cx="3962520" cy="22986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600200" y="434340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The Conflict Perspective - continued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aintaining Class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ildren from wealthy families are more likely to be placed on university bound tra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ildren from poor families are over-represented in vocational pro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82 and 1996 studies (Porter &amp; Porter; Henslin &amp; Nels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er social class = 4x more likely to be in ‘academic’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er education = higher inc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 structures tend to reproduce themsel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330033"/>
                </a:solidFill>
                <a:latin typeface="Times New Roman"/>
              </a:rPr>
              <a:t>Past Challenges in Education</a:t>
            </a:r>
            <a:br>
              <a:rPr sz="3800"/>
            </a:b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Competing Philosophie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2133360"/>
            <a:ext cx="3276720" cy="399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ditional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servativ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hilosoph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ools must teach skills for finding employ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st be in a disciplined man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r curriculum, rigidly follow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334120" y="2133360"/>
            <a:ext cx="3200400" cy="399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gressiv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hiloso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iculum should be flexible and adapt to the stu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udents should select what they want to learn and be involved in deciding the best way to learn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191120" y="3733920"/>
            <a:ext cx="1143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Ver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Part 2 – </a:t>
            </a:r>
            <a:r>
              <a:rPr b="1" i="1" lang="en-US" sz="4800" spc="-1" strike="noStrike">
                <a:solidFill>
                  <a:srgbClr val="330033"/>
                </a:solidFill>
                <a:latin typeface="Times New Roman"/>
              </a:rPr>
              <a:t>Past Challenges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ool Reform – 1940’s – to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ehaviouri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ch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arxist-fre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ch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5T16:47:39Z</dcterms:created>
  <dc:creator>Administrator</dc:creator>
  <dc:description/>
  <dc:language>en-US</dc:language>
  <cp:lastModifiedBy>Customer</cp:lastModifiedBy>
  <dcterms:modified xsi:type="dcterms:W3CDTF">2010-05-14T16:57:05Z</dcterms:modified>
  <cp:revision>8</cp:revision>
  <dc:subject/>
  <dc:title>Social Institutions</dc:title>
</cp:coreProperties>
</file>